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move the slide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60E-5AEE-4FD4-9E32-92D97A0A2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601A-0010-45BA-A0F2-02F0395789A6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95F-B9C2-4260-AEE0-CDF3912DC201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AA9-FC6A-4189-88CF-95A2D2884122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9E6-A824-4E09-A0D7-AF392ABCCBDE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D353-0324-4EC8-9B8B-25EF92BC593D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81B-A3CD-487C-A2AB-CA29E532B7D5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D8B-5227-4428-9C02-C26330DE7C45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E46-B53F-48B1-8470-9B1E1234A3B8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803D-334D-4B3A-A49E-EDDB1742B8A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edit the title text format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" name="Picture 5" descr="logo"/>
          <p:cNvPicPr/>
          <p:nvPr/>
        </p:nvPicPr>
        <p:blipFill>
          <a:blip r:embed="rId2"/>
          <a:stretch/>
        </p:blipFill>
        <p:spPr>
          <a:xfrm>
            <a:off x="8210520" y="6039000"/>
            <a:ext cx="5349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4186800" y="6581880"/>
            <a:ext cx="838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640" rIns="44640" tIns="44640" bIns="446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4B911424-40B9-43FB-BDB7-C801254A42B1}" type="slidenum">
              <a:rPr b="0" lang="en-GB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edit the title text format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3206520"/>
            <a:ext cx="77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6600"/>
                </a:solidFill>
                <a:latin typeface="Helvetica 45 Light"/>
              </a:rPr>
              <a:t>Does OMV repository structure needs improvements ?</a:t>
            </a:r>
            <a:br>
              <a:rPr sz="3600"/>
            </a:br>
            <a:endParaRPr b="0" lang="en-US" sz="36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4560" y="4365720"/>
            <a:ext cx="69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Kraków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 201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omasz Gajc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87" name="Obraz 5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6600"/>
                </a:solidFill>
                <a:latin typeface="Helvetica 45 Light"/>
              </a:rPr>
              <a:t>Backup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pic>
        <p:nvPicPr>
          <p:cNvPr id="140" name="Obraz 4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ytuł 1"/>
          <p:cNvSpPr/>
          <p:nvPr/>
        </p:nvSpPr>
        <p:spPr>
          <a:xfrm>
            <a:off x="560520" y="142920"/>
            <a:ext cx="4506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it looks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89" name="Obraz 4" descr=""/>
          <p:cNvPicPr/>
          <p:nvPr/>
        </p:nvPicPr>
        <p:blipFill>
          <a:blip r:embed="rId1"/>
          <a:stretch/>
        </p:blipFill>
        <p:spPr>
          <a:xfrm>
            <a:off x="8037360" y="5851440"/>
            <a:ext cx="901800" cy="90036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1"/>
          <p:cNvSpPr/>
          <p:nvPr/>
        </p:nvSpPr>
        <p:spPr>
          <a:xfrm>
            <a:off x="4002120" y="903240"/>
            <a:ext cx="91440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Helvetica 45 Light"/>
              </a:rPr>
              <a:t>ABF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pole tekstowe 14"/>
          <p:cNvSpPr/>
          <p:nvPr/>
        </p:nvSpPr>
        <p:spPr>
          <a:xfrm>
            <a:off x="329760" y="2303640"/>
            <a:ext cx="3996720" cy="410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SRPMS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aarch64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armv7hl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i586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x86_64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ntrib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contrib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mai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non-fre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restricted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ai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edia_inf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testing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updates/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edia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non-fre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media_info-backup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rpm-backup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rpm-new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stricted/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2" name="pole tekstowe 38"/>
          <p:cNvSpPr/>
          <p:nvPr/>
        </p:nvSpPr>
        <p:spPr>
          <a:xfrm>
            <a:off x="4657680" y="23036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3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3" name="pole tekstowe 39"/>
          <p:cNvSpPr/>
          <p:nvPr/>
        </p:nvSpPr>
        <p:spPr>
          <a:xfrm>
            <a:off x="6699240" y="23018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4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Nawias klamrowy zamykający 4101"/>
          <p:cNvSpPr/>
          <p:nvPr/>
        </p:nvSpPr>
        <p:spPr>
          <a:xfrm rot="16200000">
            <a:off x="4278960" y="-2190240"/>
            <a:ext cx="360360" cy="84168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416800"/>
              <a:gd name="textAreaBottom" fmla="*/ 8407440 h 841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5" name="pole tekstowe 4102"/>
          <p:cNvSpPr/>
          <p:nvPr/>
        </p:nvSpPr>
        <p:spPr>
          <a:xfrm>
            <a:off x="5170320" y="4197240"/>
            <a:ext cx="29865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ame repository structu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96" name="Łącznik prosty ze strzałką 4104"/>
          <p:cNvCxnSpPr>
            <a:stCxn id="92" idx="2"/>
            <a:endCxn id="95" idx="0"/>
          </p:cNvCxnSpPr>
          <p:nvPr/>
        </p:nvCxnSpPr>
        <p:spPr>
          <a:xfrm>
            <a:off x="5538960" y="2580840"/>
            <a:ext cx="1126080" cy="161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Łącznik prosty ze strzałką 4106"/>
          <p:cNvCxnSpPr>
            <a:stCxn id="93" idx="2"/>
            <a:endCxn id="95" idx="0"/>
          </p:cNvCxnSpPr>
          <p:nvPr/>
        </p:nvCxnSpPr>
        <p:spPr>
          <a:xfrm flipH="1">
            <a:off x="6663960" y="2579400"/>
            <a:ext cx="916560" cy="161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Łącznik prosty ze strzałką 4108"/>
          <p:cNvCxnSpPr>
            <a:stCxn id="95" idx="1"/>
            <a:endCxn id="91" idx="3"/>
          </p:cNvCxnSpPr>
          <p:nvPr/>
        </p:nvCxnSpPr>
        <p:spPr>
          <a:xfrm flipH="1">
            <a:off x="4269600" y="4381200"/>
            <a:ext cx="10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pole tekstowe 51"/>
          <p:cNvSpPr/>
          <p:nvPr/>
        </p:nvSpPr>
        <p:spPr>
          <a:xfrm>
            <a:off x="7302960" y="8096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3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pole tekstowe 52"/>
          <p:cNvSpPr/>
          <p:nvPr/>
        </p:nvSpPr>
        <p:spPr>
          <a:xfrm>
            <a:off x="6096600" y="1030320"/>
            <a:ext cx="7246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pole tekstowe 53"/>
          <p:cNvSpPr/>
          <p:nvPr/>
        </p:nvSpPr>
        <p:spPr>
          <a:xfrm>
            <a:off x="7302960" y="12398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4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02" name="Łącznik prosty ze strzałką 4113"/>
          <p:cNvCxnSpPr>
            <a:stCxn id="100" idx="3"/>
            <a:endCxn id="99" idx="1"/>
          </p:cNvCxnSpPr>
          <p:nvPr/>
        </p:nvCxnSpPr>
        <p:spPr>
          <a:xfrm flipV="1">
            <a:off x="6803640" y="948600"/>
            <a:ext cx="55620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Łącznik prosty ze strzałką 4115"/>
          <p:cNvCxnSpPr>
            <a:stCxn id="100" idx="3"/>
            <a:endCxn id="101" idx="1"/>
          </p:cNvCxnSpPr>
          <p:nvPr/>
        </p:nvCxnSpPr>
        <p:spPr>
          <a:xfrm>
            <a:off x="6803640" y="1168560"/>
            <a:ext cx="55620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pole tekstowe 4116"/>
          <p:cNvSpPr/>
          <p:nvPr/>
        </p:nvSpPr>
        <p:spPr>
          <a:xfrm>
            <a:off x="5924160" y="3175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pdate pro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Prostokąt zaokrąglony 4117"/>
          <p:cNvSpPr/>
          <p:nvPr/>
        </p:nvSpPr>
        <p:spPr>
          <a:xfrm>
            <a:off x="5877000" y="295200"/>
            <a:ext cx="3267000" cy="14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pole tekstowe 4124"/>
          <p:cNvSpPr/>
          <p:nvPr/>
        </p:nvSpPr>
        <p:spPr>
          <a:xfrm>
            <a:off x="5021280" y="49150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.a. 1 TB is used for our current repository. With each release this value incerases by around 0,3 GB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ytuł 1"/>
          <p:cNvSpPr/>
          <p:nvPr/>
        </p:nvSpPr>
        <p:spPr>
          <a:xfrm>
            <a:off x="560520" y="142920"/>
            <a:ext cx="7116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My thoughts on currest repository structure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952200" y="2214720"/>
            <a:ext cx="711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ur current repository structure does not fit „us”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t is very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greedy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on disk spac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Quite complicated for user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Each release we needs ~0,5 GB of free spac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We „copy” same packages over the „releases” for example: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: foobar-1-1-omv2015.0.x86_64.rp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penmandrova2014.0: foobar-1-1-omv2014.0.x86_64.rp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09" name="Obraz 15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ytuł 1"/>
          <p:cNvSpPr/>
          <p:nvPr/>
        </p:nvSpPr>
        <p:spPr>
          <a:xfrm>
            <a:off x="560520" y="142920"/>
            <a:ext cx="50911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Proposition for an improvemen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11" name="Obraz 6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1"/>
          <p:cNvSpPr/>
          <p:nvPr/>
        </p:nvSpPr>
        <p:spPr>
          <a:xfrm>
            <a:off x="162360" y="1179360"/>
            <a:ext cx="931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 structure stays in a shape as it is now (unstable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ub dirs like main{release,testing,..}, contrib, non-free stays in a shape as it is now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ntroduce „stable” directory (2015.0 ?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ename openmandriva2014.0 as „LTS”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emove opennmandriva2013.0 or rename it to legacy ?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..main/testing/ may carry „stable cooker” future packag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pole tekstowe 7"/>
          <p:cNvSpPr/>
          <p:nvPr/>
        </p:nvSpPr>
        <p:spPr>
          <a:xfrm>
            <a:off x="631080" y="4778280"/>
            <a:ext cx="9990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pole tekstowe 8"/>
          <p:cNvSpPr/>
          <p:nvPr/>
        </p:nvSpPr>
        <p:spPr>
          <a:xfrm>
            <a:off x="2428560" y="4778280"/>
            <a:ext cx="9151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4803120" y="4785480"/>
            <a:ext cx="5176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ts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8054640" y="4792680"/>
            <a:ext cx="9504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gacy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17" name="Łącznik prosty ze strzałką 12"/>
          <p:cNvCxnSpPr>
            <a:stCxn id="113" idx="3"/>
            <a:endCxn id="114" idx="1"/>
          </p:cNvCxnSpPr>
          <p:nvPr/>
        </p:nvCxnSpPr>
        <p:spPr>
          <a:xfrm>
            <a:off x="1603440" y="4962240"/>
            <a:ext cx="85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Łącznik prosty ze strzałką 14"/>
          <p:cNvCxnSpPr>
            <a:stCxn id="114" idx="3"/>
            <a:endCxn id="115" idx="1"/>
          </p:cNvCxnSpPr>
          <p:nvPr/>
        </p:nvCxnSpPr>
        <p:spPr>
          <a:xfrm>
            <a:off x="3314880" y="4962240"/>
            <a:ext cx="150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Łącznik prosty ze strzałką 17"/>
          <p:cNvCxnSpPr>
            <a:stCxn id="115" idx="3"/>
          </p:cNvCxnSpPr>
          <p:nvPr/>
        </p:nvCxnSpPr>
        <p:spPr>
          <a:xfrm>
            <a:off x="5303880" y="4968360"/>
            <a:ext cx="2775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pole tekstowe 35"/>
          <p:cNvSpPr/>
          <p:nvPr/>
        </p:nvSpPr>
        <p:spPr>
          <a:xfrm>
            <a:off x="1733400" y="402012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1" name="Łącznik prosty ze strzałką 43"/>
          <p:cNvCxnSpPr>
            <a:stCxn id="120" idx="2"/>
          </p:cNvCxnSpPr>
          <p:nvPr/>
        </p:nvCxnSpPr>
        <p:spPr>
          <a:xfrm>
            <a:off x="1931760" y="4357800"/>
            <a:ext cx="108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pole tekstowe 44"/>
          <p:cNvSpPr/>
          <p:nvPr/>
        </p:nvSpPr>
        <p:spPr>
          <a:xfrm>
            <a:off x="3816360" y="400896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3" name="Łącznik prosty ze strzałką 45"/>
          <p:cNvCxnSpPr>
            <a:stCxn id="122" idx="2"/>
          </p:cNvCxnSpPr>
          <p:nvPr/>
        </p:nvCxnSpPr>
        <p:spPr>
          <a:xfrm>
            <a:off x="4014360" y="4344840"/>
            <a:ext cx="1080" cy="55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pole tekstowe 46"/>
          <p:cNvSpPr/>
          <p:nvPr/>
        </p:nvSpPr>
        <p:spPr>
          <a:xfrm>
            <a:off x="6179400" y="402012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5" name="Łącznik prosty ze strzałką 47"/>
          <p:cNvCxnSpPr>
            <a:stCxn id="124" idx="2"/>
          </p:cNvCxnSpPr>
          <p:nvPr/>
        </p:nvCxnSpPr>
        <p:spPr>
          <a:xfrm>
            <a:off x="6376680" y="4355640"/>
            <a:ext cx="1080" cy="554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ytuł 1"/>
          <p:cNvSpPr/>
          <p:nvPr/>
        </p:nvSpPr>
        <p:spPr>
          <a:xfrm>
            <a:off x="560520" y="142920"/>
            <a:ext cx="4506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it should work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27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15"/>
          <p:cNvSpPr/>
          <p:nvPr/>
        </p:nvSpPr>
        <p:spPr>
          <a:xfrm>
            <a:off x="476280" y="1179360"/>
            <a:ext cx="866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 follow current cooker rul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 repositor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not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froze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New build rpm goes first to testing (../main/testing) then goes to release (../main/release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TS repositor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froze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New build rpm goes to testing (../main/testing) then goes to updates (../main/upda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gac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frozen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, updates are permitted but only critical on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Keep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current rule for software updates first update cooker then do the testing and update other branches if necessar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ytuł 1"/>
          <p:cNvSpPr/>
          <p:nvPr/>
        </p:nvSpPr>
        <p:spPr>
          <a:xfrm>
            <a:off x="560520" y="142920"/>
            <a:ext cx="6081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we are going to do releases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0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15"/>
          <p:cNvSpPr/>
          <p:nvPr/>
        </p:nvSpPr>
        <p:spPr>
          <a:xfrm>
            <a:off x="476280" y="1179360"/>
            <a:ext cx="8667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First do the release of 2015.0, then rename openmandriva2015.0/ to stable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pdate software and develop new features in cooker tre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Push new software from cooker to stable/main/testing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rt QA procedure – extended with new features: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un repository integrity tests (urpm-tools – urpm-repodiff, urpm-repoclosure for ../stable/main/release with rpms from ../stable/main/testing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ntegrate urpm-tools into kahinah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Accept or reject updat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Accepted software goes to ../stable/main/relea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Build ISO based on ../stable/*/relea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We can decide any time when we ant to bump release version in distro-release pack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%distepoch is not so important anym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ytuł 1"/>
          <p:cNvSpPr/>
          <p:nvPr/>
        </p:nvSpPr>
        <p:spPr>
          <a:xfrm>
            <a:off x="560520" y="142920"/>
            <a:ext cx="6081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What are the benefits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3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5"/>
          <p:cNvSpPr/>
          <p:nvPr/>
        </p:nvSpPr>
        <p:spPr>
          <a:xfrm>
            <a:off x="476280" y="1179360"/>
            <a:ext cx="866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nly 4 repositori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Decidated repository for L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ss requirements on disk space for mirrors and our infastructu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Better QA and integrity tes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ser can easily use OMV Lx flavour which they want to u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 repository is always stable, it will be updated with new softwa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ytuł 1"/>
          <p:cNvSpPr/>
          <p:nvPr/>
        </p:nvSpPr>
        <p:spPr>
          <a:xfrm>
            <a:off x="747720" y="2709720"/>
            <a:ext cx="77598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Discussion on Pseudo Rolling Release model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6" name="Obraz 4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400" y="2286000"/>
            <a:ext cx="900108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600" spc="-1" strike="noStrike">
                <a:solidFill>
                  <a:srgbClr val="ff6600"/>
                </a:solidFill>
                <a:latin typeface="Helvetica 45 Light"/>
              </a:rPr>
              <a:t>Thank you </a:t>
            </a:r>
            <a:r>
              <a:rPr b="0" lang="pl-PL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6600"/>
              </a:solidFill>
              <a:latin typeface="Helvetica 45 Light"/>
            </a:endParaRPr>
          </a:p>
        </p:txBody>
      </p:sp>
      <p:pic>
        <p:nvPicPr>
          <p:cNvPr id="138" name="Obraz 3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34:03Z</dcterms:created>
  <dc:creator>Krzosek Renata 3 - Detal PTK</dc:creator>
  <dc:description/>
  <dc:language>en-US</dc:language>
  <cp:lastModifiedBy>Gajc Tomasz 2 - Detal</cp:lastModifiedBy>
  <cp:lastPrinted>2012-09-24T12:41:49Z</cp:lastPrinted>
  <dcterms:modified xsi:type="dcterms:W3CDTF">2015-10-10T12:18:28Z</dcterms:modified>
  <cp:revision>524</cp:revision>
  <dc:subject/>
  <dc:title>Orange Open - processes</dc:title>
</cp:coreProperties>
</file>