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Helvetica 45 Light"/>
              </a:rPr>
              <a:t>Click to move the slide</a:t>
            </a: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DF94-3DC6-4C0F-B0B4-9280A3061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563B-D711-4B84-B8E4-B14CBE093743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9919-38EA-442B-9F2B-713C2CD8ED5A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875E-6841-412B-8334-C17E53B80D91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2241-43FA-42F0-AC99-08A32898C4A0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4968-1FD6-4888-89FB-A1331485874F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07B1-E8F2-451C-892C-0D959C835BCB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0AB5-6B32-4132-919A-85CA95F7D28D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ymbol zastępczy numeru slajdu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57AB-C543-45BF-96DA-CF098946B828}" type="slidenum"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8F94-CD13-418A-AD70-6B69A5FC9D4E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Helvetica 45 Light"/>
              </a:rPr>
              <a:t>Click to edit the title text format</a:t>
            </a: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2" name="Picture 5" descr="logo"/>
          <p:cNvPicPr/>
          <p:nvPr/>
        </p:nvPicPr>
        <p:blipFill>
          <a:blip r:embed="rId2"/>
          <a:stretch/>
        </p:blipFill>
        <p:spPr>
          <a:xfrm>
            <a:off x="8210520" y="6039000"/>
            <a:ext cx="5349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4186800" y="6581880"/>
            <a:ext cx="8384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640" rIns="44640" tIns="44640" bIns="446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F76F1BDD-33E3-4BBE-8ADD-13E36915B56E}" type="slidenum">
              <a:rPr b="0" lang="en-GB" sz="1200" spc="-1" strike="noStrike">
                <a:solidFill>
                  <a:srgbClr val="000000"/>
                </a:solidFill>
                <a:latin typeface="Helvetica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Helvetica 45 Light"/>
              </a:rPr>
              <a:t>Click to edit the title text format</a:t>
            </a: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lnSpc>
                <a:spcPct val="11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Helvetica CE 45 Light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3206520"/>
            <a:ext cx="77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6600"/>
                </a:solidFill>
                <a:latin typeface="Helvetica 45 Light"/>
              </a:rPr>
              <a:t>Does OMV repository structure needs improvements ?</a:t>
            </a:r>
            <a:br>
              <a:rPr sz="3600"/>
            </a:br>
            <a:endParaRPr b="0" lang="en-US" sz="3600" spc="-1" strike="noStrike">
              <a:solidFill>
                <a:srgbClr val="ff6600"/>
              </a:solidFill>
              <a:latin typeface="Helvetica 45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4560" y="4365720"/>
            <a:ext cx="691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Kraków</a:t>
            </a: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 201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Tomasz Gajc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87" name="Obraz 5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6600"/>
                </a:solidFill>
                <a:latin typeface="Helvetica 45 Light"/>
              </a:rPr>
              <a:t>Backup</a:t>
            </a:r>
            <a:endParaRPr b="0" lang="en-US" sz="2800" spc="-1" strike="noStrike">
              <a:solidFill>
                <a:srgbClr val="ff6600"/>
              </a:solidFill>
              <a:latin typeface="Helvetica 45 Light"/>
            </a:endParaRPr>
          </a:p>
        </p:txBody>
      </p:sp>
      <p:pic>
        <p:nvPicPr>
          <p:cNvPr id="140" name="Obraz 4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ytuł 1"/>
          <p:cNvSpPr/>
          <p:nvPr/>
        </p:nvSpPr>
        <p:spPr>
          <a:xfrm>
            <a:off x="560520" y="142920"/>
            <a:ext cx="45068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How it looks?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89" name="Obraz 4" descr=""/>
          <p:cNvPicPr/>
          <p:nvPr/>
        </p:nvPicPr>
        <p:blipFill>
          <a:blip r:embed="rId1"/>
          <a:stretch/>
        </p:blipFill>
        <p:spPr>
          <a:xfrm>
            <a:off x="8037360" y="5851440"/>
            <a:ext cx="901800" cy="90036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1"/>
          <p:cNvSpPr/>
          <p:nvPr/>
        </p:nvSpPr>
        <p:spPr>
          <a:xfrm>
            <a:off x="4002120" y="903240"/>
            <a:ext cx="91440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Helvetica 45 Light"/>
              </a:rPr>
              <a:t>ABF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1" name="pole tekstowe 14"/>
          <p:cNvSpPr/>
          <p:nvPr/>
        </p:nvSpPr>
        <p:spPr>
          <a:xfrm>
            <a:off x="329760" y="2303640"/>
            <a:ext cx="3996720" cy="4109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cooker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SRPMS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aarch64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armv7hl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i586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x86_64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contrib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debug_contrib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debug_main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debug_non-free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debug_restricted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main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media_info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release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testing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updates/ 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media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non-free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release-media_info-backup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release-rpm-backup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release-rpm-new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restricted/ 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2" name="pole tekstowe 38"/>
          <p:cNvSpPr/>
          <p:nvPr/>
        </p:nvSpPr>
        <p:spPr>
          <a:xfrm>
            <a:off x="4657680" y="2303640"/>
            <a:ext cx="176256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openmandriva2013.0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3" name="pole tekstowe 39"/>
          <p:cNvSpPr/>
          <p:nvPr/>
        </p:nvSpPr>
        <p:spPr>
          <a:xfrm>
            <a:off x="6699240" y="2301840"/>
            <a:ext cx="176256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openmandriva2014.0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4" name="Nawias klamrowy zamykający 4101"/>
          <p:cNvSpPr/>
          <p:nvPr/>
        </p:nvSpPr>
        <p:spPr>
          <a:xfrm rot="16200000">
            <a:off x="4278960" y="-2190240"/>
            <a:ext cx="360360" cy="84168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8416800"/>
              <a:gd name="textAreaBottom" fmla="*/ 8407440 h 841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"/>
                  <a:pt x="10800" y="77"/>
                </a:cubicBezTo>
                <a:lnTo>
                  <a:pt x="10800" y="10723"/>
                </a:lnTo>
                <a:cubicBezTo>
                  <a:pt x="10800" y="10762"/>
                  <a:pt x="16200" y="10800"/>
                  <a:pt x="21600" y="10800"/>
                </a:cubicBezTo>
                <a:cubicBezTo>
                  <a:pt x="16200" y="10800"/>
                  <a:pt x="10800" y="10839"/>
                  <a:pt x="10800" y="10877"/>
                </a:cubicBezTo>
                <a:lnTo>
                  <a:pt x="10800" y="21523"/>
                </a:lnTo>
                <a:cubicBezTo>
                  <a:pt x="10800" y="215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5" name="pole tekstowe 4102"/>
          <p:cNvSpPr/>
          <p:nvPr/>
        </p:nvSpPr>
        <p:spPr>
          <a:xfrm>
            <a:off x="5170320" y="4197240"/>
            <a:ext cx="29865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Same repository structu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96" name="Łącznik prosty ze strzałką 4104"/>
          <p:cNvCxnSpPr>
            <a:stCxn id="92" idx="2"/>
            <a:endCxn id="95" idx="0"/>
          </p:cNvCxnSpPr>
          <p:nvPr/>
        </p:nvCxnSpPr>
        <p:spPr>
          <a:xfrm>
            <a:off x="5538960" y="2580840"/>
            <a:ext cx="1126080" cy="161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Łącznik prosty ze strzałką 4106"/>
          <p:cNvCxnSpPr>
            <a:stCxn id="93" idx="2"/>
            <a:endCxn id="95" idx="0"/>
          </p:cNvCxnSpPr>
          <p:nvPr/>
        </p:nvCxnSpPr>
        <p:spPr>
          <a:xfrm flipH="1">
            <a:off x="6663960" y="2579400"/>
            <a:ext cx="916560" cy="161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Łącznik prosty ze strzałką 4108"/>
          <p:cNvCxnSpPr>
            <a:stCxn id="95" idx="1"/>
            <a:endCxn id="91" idx="3"/>
          </p:cNvCxnSpPr>
          <p:nvPr/>
        </p:nvCxnSpPr>
        <p:spPr>
          <a:xfrm flipH="1">
            <a:off x="4269600" y="4381200"/>
            <a:ext cx="1019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pole tekstowe 51"/>
          <p:cNvSpPr/>
          <p:nvPr/>
        </p:nvSpPr>
        <p:spPr>
          <a:xfrm>
            <a:off x="7302960" y="809640"/>
            <a:ext cx="176256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openmandriva2013.0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0" name="pole tekstowe 52"/>
          <p:cNvSpPr/>
          <p:nvPr/>
        </p:nvSpPr>
        <p:spPr>
          <a:xfrm>
            <a:off x="6096600" y="1030320"/>
            <a:ext cx="72468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cooker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1" name="pole tekstowe 53"/>
          <p:cNvSpPr/>
          <p:nvPr/>
        </p:nvSpPr>
        <p:spPr>
          <a:xfrm>
            <a:off x="7302960" y="1239840"/>
            <a:ext cx="176256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openmandriva2014.0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02" name="Łącznik prosty ze strzałką 4113"/>
          <p:cNvCxnSpPr>
            <a:stCxn id="100" idx="3"/>
            <a:endCxn id="99" idx="1"/>
          </p:cNvCxnSpPr>
          <p:nvPr/>
        </p:nvCxnSpPr>
        <p:spPr>
          <a:xfrm flipV="1">
            <a:off x="6803640" y="948600"/>
            <a:ext cx="55620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Łącznik prosty ze strzałką 4115"/>
          <p:cNvCxnSpPr>
            <a:stCxn id="100" idx="3"/>
            <a:endCxn id="101" idx="1"/>
          </p:cNvCxnSpPr>
          <p:nvPr/>
        </p:nvCxnSpPr>
        <p:spPr>
          <a:xfrm>
            <a:off x="6803640" y="1168560"/>
            <a:ext cx="55620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pole tekstowe 4116"/>
          <p:cNvSpPr/>
          <p:nvPr/>
        </p:nvSpPr>
        <p:spPr>
          <a:xfrm>
            <a:off x="5924160" y="31752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Update proces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5" name="Prostokąt zaokrąglony 4117"/>
          <p:cNvSpPr/>
          <p:nvPr/>
        </p:nvSpPr>
        <p:spPr>
          <a:xfrm>
            <a:off x="5877000" y="295200"/>
            <a:ext cx="3267000" cy="14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6" name="pole tekstowe 4124"/>
          <p:cNvSpPr/>
          <p:nvPr/>
        </p:nvSpPr>
        <p:spPr>
          <a:xfrm>
            <a:off x="5021280" y="49150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c.a. 1 TB is used for our current repository. With each release this value incerases by around 0,3 GB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ytuł 1"/>
          <p:cNvSpPr/>
          <p:nvPr/>
        </p:nvSpPr>
        <p:spPr>
          <a:xfrm>
            <a:off x="560520" y="142920"/>
            <a:ext cx="71164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My thoughts on currest repository structure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8" name="pole tekstowe 3"/>
          <p:cNvSpPr/>
          <p:nvPr/>
        </p:nvSpPr>
        <p:spPr>
          <a:xfrm>
            <a:off x="952200" y="2214720"/>
            <a:ext cx="711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Our current repository structure does not fit „us”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It is very </a:t>
            </a:r>
            <a:r>
              <a:rPr b="1" lang="pl-PL" sz="1800" spc="-1" strike="noStrike">
                <a:solidFill>
                  <a:srgbClr val="000000"/>
                </a:solidFill>
                <a:latin typeface="Helvetica 45 Light"/>
              </a:rPr>
              <a:t>greedy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 on disk spac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Quite complicated for user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Each release we needs ~0,5 GB of free spac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We „copy” same packages over the „releases” for example: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cooker: foobar-1-1-omv2015.0.x86_64.rpm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openmandrova2014.0: foobar-1-1-omv2014.0.x86_64.rpm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09" name="Obraz 15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ytuł 1"/>
          <p:cNvSpPr/>
          <p:nvPr/>
        </p:nvSpPr>
        <p:spPr>
          <a:xfrm>
            <a:off x="560520" y="142920"/>
            <a:ext cx="50911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Proposition for an improvement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11" name="Obraz 6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1"/>
          <p:cNvSpPr/>
          <p:nvPr/>
        </p:nvSpPr>
        <p:spPr>
          <a:xfrm>
            <a:off x="162360" y="1179360"/>
            <a:ext cx="931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Cooker structure stays in a shape as it is now (unstable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Sub dirs like main{release,testing,..}, contrib, non-free stays in a shape as it is now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Introduce „stable” directory (2015.0 ?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Rename openmandriva2014.0 as „LTS”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Remove opennmandriva2013.0 or rename it to legacy ?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..main/testing/ may carry „stable cooker” future packag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3" name="pole tekstowe 7"/>
          <p:cNvSpPr/>
          <p:nvPr/>
        </p:nvSpPr>
        <p:spPr>
          <a:xfrm>
            <a:off x="631080" y="4778280"/>
            <a:ext cx="9990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cooker/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4" name="pole tekstowe 8"/>
          <p:cNvSpPr/>
          <p:nvPr/>
        </p:nvSpPr>
        <p:spPr>
          <a:xfrm>
            <a:off x="2428560" y="4778280"/>
            <a:ext cx="9151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stable/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5" name="pole tekstowe 10"/>
          <p:cNvSpPr/>
          <p:nvPr/>
        </p:nvSpPr>
        <p:spPr>
          <a:xfrm>
            <a:off x="4803120" y="4785480"/>
            <a:ext cx="5176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lts/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6" name="pole tekstowe 11"/>
          <p:cNvSpPr/>
          <p:nvPr/>
        </p:nvSpPr>
        <p:spPr>
          <a:xfrm>
            <a:off x="8054640" y="4792680"/>
            <a:ext cx="9504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legacy/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17" name="Łącznik prosty ze strzałką 12"/>
          <p:cNvCxnSpPr>
            <a:stCxn id="113" idx="3"/>
            <a:endCxn id="114" idx="1"/>
          </p:cNvCxnSpPr>
          <p:nvPr/>
        </p:nvCxnSpPr>
        <p:spPr>
          <a:xfrm>
            <a:off x="1603440" y="4962240"/>
            <a:ext cx="854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Łącznik prosty ze strzałką 14"/>
          <p:cNvCxnSpPr>
            <a:stCxn id="114" idx="3"/>
            <a:endCxn id="115" idx="1"/>
          </p:cNvCxnSpPr>
          <p:nvPr/>
        </p:nvCxnSpPr>
        <p:spPr>
          <a:xfrm>
            <a:off x="3314880" y="4962240"/>
            <a:ext cx="150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Łącznik prosty ze strzałką 17"/>
          <p:cNvCxnSpPr>
            <a:stCxn id="115" idx="3"/>
          </p:cNvCxnSpPr>
          <p:nvPr/>
        </p:nvCxnSpPr>
        <p:spPr>
          <a:xfrm>
            <a:off x="5303880" y="4968360"/>
            <a:ext cx="2775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pole tekstowe 35"/>
          <p:cNvSpPr/>
          <p:nvPr/>
        </p:nvSpPr>
        <p:spPr>
          <a:xfrm>
            <a:off x="1733400" y="4020120"/>
            <a:ext cx="39708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21" name="Łącznik prosty ze strzałką 43"/>
          <p:cNvCxnSpPr>
            <a:stCxn id="120" idx="2"/>
          </p:cNvCxnSpPr>
          <p:nvPr/>
        </p:nvCxnSpPr>
        <p:spPr>
          <a:xfrm>
            <a:off x="1931760" y="4357800"/>
            <a:ext cx="1080" cy="50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2" name="pole tekstowe 44"/>
          <p:cNvSpPr/>
          <p:nvPr/>
        </p:nvSpPr>
        <p:spPr>
          <a:xfrm>
            <a:off x="3816360" y="4008960"/>
            <a:ext cx="39708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23" name="Łącznik prosty ze strzałką 45"/>
          <p:cNvCxnSpPr>
            <a:stCxn id="122" idx="2"/>
          </p:cNvCxnSpPr>
          <p:nvPr/>
        </p:nvCxnSpPr>
        <p:spPr>
          <a:xfrm>
            <a:off x="4014360" y="4344840"/>
            <a:ext cx="1080" cy="556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4" name="pole tekstowe 46"/>
          <p:cNvSpPr/>
          <p:nvPr/>
        </p:nvSpPr>
        <p:spPr>
          <a:xfrm>
            <a:off x="6179400" y="4020120"/>
            <a:ext cx="397080" cy="276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Helvetica 45 Light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25" name="Łącznik prosty ze strzałką 47"/>
          <p:cNvCxnSpPr>
            <a:stCxn id="124" idx="2"/>
          </p:cNvCxnSpPr>
          <p:nvPr/>
        </p:nvCxnSpPr>
        <p:spPr>
          <a:xfrm>
            <a:off x="6376680" y="4355640"/>
            <a:ext cx="1080" cy="554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ytuł 1"/>
          <p:cNvSpPr/>
          <p:nvPr/>
        </p:nvSpPr>
        <p:spPr>
          <a:xfrm>
            <a:off x="560520" y="142920"/>
            <a:ext cx="45068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How it should work ?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27" name="Obraz 12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  <p:sp>
        <p:nvSpPr>
          <p:cNvPr id="128" name="pole tekstowe 15"/>
          <p:cNvSpPr/>
          <p:nvPr/>
        </p:nvSpPr>
        <p:spPr>
          <a:xfrm>
            <a:off x="476280" y="1179360"/>
            <a:ext cx="8667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Cooker follow current cooker rul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Stable repository is </a:t>
            </a:r>
            <a:r>
              <a:rPr b="1" lang="pl-PL" sz="1800" spc="-1" strike="noStrike">
                <a:solidFill>
                  <a:srgbClr val="000000"/>
                </a:solidFill>
                <a:latin typeface="Helvetica 45 Light"/>
              </a:rPr>
              <a:t>not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 frozen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New build rpm goes first to testing (../main/testing) then goes to release (../main/release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LTS repository is </a:t>
            </a:r>
            <a:r>
              <a:rPr b="1" lang="pl-PL" sz="1800" spc="-1" strike="noStrike">
                <a:solidFill>
                  <a:srgbClr val="000000"/>
                </a:solidFill>
                <a:latin typeface="Helvetica 45 Light"/>
              </a:rPr>
              <a:t>frozen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New build rpm goes to testing (../main/testing) then goes to updates (../main/updates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Legacy is </a:t>
            </a:r>
            <a:r>
              <a:rPr b="1" lang="pl-PL" sz="1800" spc="-1" strike="noStrike">
                <a:solidFill>
                  <a:srgbClr val="000000"/>
                </a:solidFill>
                <a:latin typeface="Helvetica 45 Light"/>
              </a:rPr>
              <a:t>frozen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, updates are permitted but only critical on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Helvetica 45 Light"/>
              </a:rPr>
              <a:t>Keep</a:t>
            </a: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 current rule for software updates first update cooker then do the testing and update other branches if necessary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ytuł 1"/>
          <p:cNvSpPr/>
          <p:nvPr/>
        </p:nvSpPr>
        <p:spPr>
          <a:xfrm>
            <a:off x="560520" y="142920"/>
            <a:ext cx="60814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How we are going to do releases ?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30" name="Obraz 12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15"/>
          <p:cNvSpPr/>
          <p:nvPr/>
        </p:nvSpPr>
        <p:spPr>
          <a:xfrm>
            <a:off x="476280" y="1179360"/>
            <a:ext cx="8667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First do the release of 2015.0, then rename openmandriva2015.0/ to stable/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Update software and develop new features in cooker tre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Push new software from cooker to stable/main/testing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Start QA procedure – extended with new features: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Run repository integrity tests (urpm-tools – urpm-repodiff, urpm-repoclosure for ../stable/main/release with rpms from ../stable/main/testing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Integrate urpm-tools into kahinah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Accept or reject updat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Accepted software goes to ../stable/main/releas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Build ISO based on ../stable/*/releas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We can decide any time when we ant to bump release version in distro-release packag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%distepoch is not so important anymo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ytuł 1"/>
          <p:cNvSpPr/>
          <p:nvPr/>
        </p:nvSpPr>
        <p:spPr>
          <a:xfrm>
            <a:off x="560520" y="142920"/>
            <a:ext cx="60814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What are the benefits?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33" name="Obraz 12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15"/>
          <p:cNvSpPr/>
          <p:nvPr/>
        </p:nvSpPr>
        <p:spPr>
          <a:xfrm>
            <a:off x="476280" y="1179360"/>
            <a:ext cx="8667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Only 4 repositori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Decidated repository for LT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Less requirements on disk space for mirrors and our infastructu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Better QA and integrity test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User can easily use OMV Lx flavour which they want to us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Helvetica 45 Light"/>
              </a:rPr>
              <a:t>Stable repository is always stable, it will be updated with new softwa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ytuł 1"/>
          <p:cNvSpPr/>
          <p:nvPr/>
        </p:nvSpPr>
        <p:spPr>
          <a:xfrm>
            <a:off x="747720" y="2709720"/>
            <a:ext cx="77598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Helvetica 45 Light"/>
              </a:rPr>
              <a:t>Discussion on Pseudo Rolling Release model ?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36" name="Obraz 4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400" y="2286000"/>
            <a:ext cx="9001080" cy="16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600" spc="-1" strike="noStrike">
                <a:solidFill>
                  <a:srgbClr val="ff6600"/>
                </a:solidFill>
                <a:latin typeface="Helvetica 45 Light"/>
              </a:rPr>
              <a:t>Thank you </a:t>
            </a:r>
            <a:r>
              <a:rPr b="0" lang="pl-PL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ff6600"/>
              </a:solidFill>
              <a:latin typeface="Helvetica 45 Light"/>
            </a:endParaRPr>
          </a:p>
        </p:txBody>
      </p:sp>
      <p:pic>
        <p:nvPicPr>
          <p:cNvPr id="138" name="Obraz 3" descr=""/>
          <p:cNvPicPr/>
          <p:nvPr/>
        </p:nvPicPr>
        <p:blipFill>
          <a:blip r:embed="rId1"/>
          <a:stretch/>
        </p:blipFill>
        <p:spPr>
          <a:xfrm>
            <a:off x="8056440" y="5815080"/>
            <a:ext cx="901800" cy="90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34:03Z</dcterms:created>
  <dc:creator>Krzosek Renata 3 - Detal PTK</dc:creator>
  <dc:description/>
  <dc:language>en-US</dc:language>
  <cp:lastModifiedBy>Gajc Tomasz 2 - Detal</cp:lastModifiedBy>
  <cp:lastPrinted>2012-09-24T12:41:49Z</cp:lastPrinted>
  <dcterms:modified xsi:type="dcterms:W3CDTF">2015-10-10T12:18:28Z</dcterms:modified>
  <cp:revision>524</cp:revision>
  <dc:subject/>
  <dc:title>Orange Open - processes</dc:title>
</cp:coreProperties>
</file>